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9"/>
        <p:sld r:id="rId11"/>
        <p:sld r:id="rId12"/>
        <p:sld r:id="rId13"/>
        <p:sld r:id="rId17"/>
        <p:sld r:id="rId19"/>
        <p:sld r:id="rId20"/>
        <p:sld r:id="rId26"/>
        <p:sld r:id="rId30"/>
        <p:sld r:id="rId31"/>
        <p:sld r:id="rId32"/>
        <p:sld r:id="rId33"/>
        <p:sld r:id="rId36"/>
      </p:sldLst>
    </p:custShow>
    <p:custShow name="transparencies" id="1">
      <p:sldLst>
        <p:sld r:id="rId8"/>
        <p:sld r:id="rId10"/>
        <p:sld r:id="rId16"/>
        <p:sld r:id="rId22"/>
        <p:sld r:id="rId25"/>
        <p:sld r:id="rId28"/>
        <p:sld r:id="rId34"/>
        <p:sld r:id="rId38"/>
        <p:sld r:id="rId40"/>
        <p:sld r:id="rId42"/>
        <p:sld r:id="rId46"/>
      </p:sldLst>
    </p:custShow>
    <p:custShow name="SW7 sect 1" id="2">
      <p:sldLst>
        <p:sld r:id="rId5"/>
        <p:sld r:id="rId6"/>
        <p:sld r:id="rId9"/>
        <p:sld r:id="rId11"/>
        <p:sld r:id="rId12"/>
        <p:sld r:id="rId13"/>
        <p:sld r:id="rId17"/>
        <p:sld r:id="rId19"/>
        <p:sld r:id="rId20"/>
        <p:sld r:id="rId26"/>
        <p:sld r:id="rId30"/>
        <p:sld r:id="rId31"/>
        <p:sld r:id="rId32"/>
        <p:sld r:id="rId33"/>
        <p:sld r:id="rId36"/>
      </p:sldLst>
    </p:custShow>
    <p:custShow name="SW7 sect 2" id="3">
      <p:sldLst>
        <p:sld r:id="rId12"/>
        <p:sld r:id="rId13"/>
        <p:sld r:id="rId17"/>
        <p:sld r:id="rId19"/>
        <p:sld r:id="rId20"/>
        <p:sld r:id="rId26"/>
        <p:sld r:id="rId30"/>
        <p:sld r:id="rId31"/>
        <p:sld r:id="rId32"/>
        <p:sld r:id="rId33"/>
        <p:sld r:id="rId36"/>
      </p:sldLst>
    </p:custShow>
    <p:custShow name="SW7 sect 3" id="4">
      <p:sldLst>
        <p:sld r:id="rId19"/>
        <p:sld r:id="rId20"/>
        <p:sld r:id="rId26"/>
        <p:sld r:id="rId30"/>
        <p:sld r:id="rId31"/>
        <p:sld r:id="rId32"/>
        <p:sld r:id="rId33"/>
        <p:sld r:id="rId36"/>
      </p:sldLst>
    </p:custShow>
    <p:custShow name="SW7 sect 4" id="5">
      <p:sldLst>
        <p:sld r:id="rId30"/>
        <p:sld r:id="rId31"/>
        <p:sld r:id="rId32"/>
        <p:sld r:id="rId33"/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0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429000" y="2127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troduction to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990720" y="2484360"/>
            <a:ext cx="79246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990720" y="167148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6"/>
          <p:cNvSpPr/>
          <p:nvPr/>
        </p:nvSpPr>
        <p:spPr>
          <a:xfrm>
            <a:off x="795240" y="2484360"/>
            <a:ext cx="4767480" cy="457200"/>
          </a:xfrm>
          <a:custGeom>
            <a:avLst/>
            <a:gdLst>
              <a:gd name="textAreaLeft" fmla="*/ 29520 w 4767480"/>
              <a:gd name="textAreaRight" fmla="*/ 4737960 w 4767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5075" h="21600">
                <a:moveTo>
                  <a:pt x="0" y="0"/>
                </a:moveTo>
                <a:lnTo>
                  <a:pt x="225075" y="0"/>
                </a:lnTo>
                <a:lnTo>
                  <a:pt x="225075" y="21600"/>
                </a:lnTo>
                <a:lnTo>
                  <a:pt x="0" y="21600"/>
                </a:lnTo>
                <a:close/>
              </a:path>
              <a:path fill="lightenLess" w="225075" h="21600">
                <a:moveTo>
                  <a:pt x="0" y="0"/>
                </a:moveTo>
                <a:lnTo>
                  <a:pt x="225075" y="0"/>
                </a:lnTo>
                <a:lnTo>
                  <a:pt x="223675" y="1400"/>
                </a:lnTo>
                <a:lnTo>
                  <a:pt x="1400" y="1400"/>
                </a:lnTo>
                <a:close/>
              </a:path>
              <a:path fill="darken" w="225075" h="21600">
                <a:moveTo>
                  <a:pt x="225075" y="0"/>
                </a:moveTo>
                <a:lnTo>
                  <a:pt x="225075" y="21600"/>
                </a:lnTo>
                <a:lnTo>
                  <a:pt x="223675" y="20200"/>
                </a:lnTo>
                <a:lnTo>
                  <a:pt x="223675" y="1400"/>
                </a:lnTo>
                <a:close/>
              </a:path>
              <a:path fill="darkenLess" w="225075" h="21600">
                <a:moveTo>
                  <a:pt x="225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75" y="20200"/>
                </a:lnTo>
                <a:close/>
              </a:path>
              <a:path fill="lighten" w="225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7"/>
          <p:cNvSpPr/>
          <p:nvPr/>
        </p:nvSpPr>
        <p:spPr>
          <a:xfrm>
            <a:off x="795240" y="3094200"/>
            <a:ext cx="4157640" cy="457200"/>
          </a:xfrm>
          <a:custGeom>
            <a:avLst/>
            <a:gdLst>
              <a:gd name="textAreaLeft" fmla="*/ 29520 w 4157640"/>
              <a:gd name="textAreaRight" fmla="*/ 4128120 w 4157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6286" h="21600">
                <a:moveTo>
                  <a:pt x="0" y="0"/>
                </a:moveTo>
                <a:lnTo>
                  <a:pt x="196286" y="0"/>
                </a:lnTo>
                <a:lnTo>
                  <a:pt x="196286" y="21600"/>
                </a:lnTo>
                <a:lnTo>
                  <a:pt x="0" y="21600"/>
                </a:lnTo>
                <a:close/>
              </a:path>
              <a:path fill="lightenLess" w="196286" h="21600">
                <a:moveTo>
                  <a:pt x="0" y="0"/>
                </a:moveTo>
                <a:lnTo>
                  <a:pt x="196286" y="0"/>
                </a:lnTo>
                <a:lnTo>
                  <a:pt x="194886" y="1400"/>
                </a:lnTo>
                <a:lnTo>
                  <a:pt x="1400" y="1400"/>
                </a:lnTo>
                <a:close/>
              </a:path>
              <a:path fill="darken" w="196286" h="21600">
                <a:moveTo>
                  <a:pt x="196286" y="0"/>
                </a:moveTo>
                <a:lnTo>
                  <a:pt x="196286" y="21600"/>
                </a:lnTo>
                <a:lnTo>
                  <a:pt x="194886" y="20200"/>
                </a:lnTo>
                <a:lnTo>
                  <a:pt x="194886" y="1400"/>
                </a:lnTo>
                <a:close/>
              </a:path>
              <a:path fill="darkenLess" w="196286" h="21600">
                <a:moveTo>
                  <a:pt x="196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4886" y="20200"/>
                </a:lnTo>
                <a:close/>
              </a:path>
              <a:path fill="lighten" w="196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8"/>
          <p:cNvSpPr/>
          <p:nvPr/>
        </p:nvSpPr>
        <p:spPr>
          <a:xfrm>
            <a:off x="795240" y="3780000"/>
            <a:ext cx="4005360" cy="457200"/>
          </a:xfrm>
          <a:custGeom>
            <a:avLst/>
            <a:gdLst>
              <a:gd name="textAreaLeft" fmla="*/ 29520 w 4005360"/>
              <a:gd name="textAreaRight" fmla="*/ 3975840 w 400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89098" h="21600">
                <a:moveTo>
                  <a:pt x="0" y="0"/>
                </a:moveTo>
                <a:lnTo>
                  <a:pt x="189098" y="0"/>
                </a:lnTo>
                <a:lnTo>
                  <a:pt x="189098" y="21600"/>
                </a:lnTo>
                <a:lnTo>
                  <a:pt x="0" y="21600"/>
                </a:lnTo>
                <a:close/>
              </a:path>
              <a:path fill="lightenLess" w="189098" h="21600">
                <a:moveTo>
                  <a:pt x="0" y="0"/>
                </a:moveTo>
                <a:lnTo>
                  <a:pt x="189098" y="0"/>
                </a:lnTo>
                <a:lnTo>
                  <a:pt x="187698" y="1400"/>
                </a:lnTo>
                <a:lnTo>
                  <a:pt x="1400" y="1400"/>
                </a:lnTo>
                <a:close/>
              </a:path>
              <a:path fill="darken" w="189098" h="21600">
                <a:moveTo>
                  <a:pt x="189098" y="0"/>
                </a:moveTo>
                <a:lnTo>
                  <a:pt x="189098" y="21600"/>
                </a:lnTo>
                <a:lnTo>
                  <a:pt x="187698" y="20200"/>
                </a:lnTo>
                <a:lnTo>
                  <a:pt x="187698" y="1400"/>
                </a:lnTo>
                <a:close/>
              </a:path>
              <a:path fill="darkenLess" w="189098" h="21600">
                <a:moveTo>
                  <a:pt x="18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698" y="20200"/>
                </a:lnTo>
                <a:close/>
              </a:path>
              <a:path fill="lighten" w="18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9"/>
          <p:cNvSpPr/>
          <p:nvPr/>
        </p:nvSpPr>
        <p:spPr>
          <a:xfrm>
            <a:off x="795240" y="4465800"/>
            <a:ext cx="6062760" cy="457200"/>
          </a:xfrm>
          <a:custGeom>
            <a:avLst/>
            <a:gdLst>
              <a:gd name="textAreaLeft" fmla="*/ 29520 w 6062760"/>
              <a:gd name="textAreaRight" fmla="*/ 6033240 w 6062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6221" h="21600">
                <a:moveTo>
                  <a:pt x="0" y="0"/>
                </a:moveTo>
                <a:lnTo>
                  <a:pt x="286221" y="0"/>
                </a:lnTo>
                <a:lnTo>
                  <a:pt x="286221" y="21600"/>
                </a:lnTo>
                <a:lnTo>
                  <a:pt x="0" y="21600"/>
                </a:lnTo>
                <a:close/>
              </a:path>
              <a:path fill="lightenLess" w="286221" h="21600">
                <a:moveTo>
                  <a:pt x="0" y="0"/>
                </a:moveTo>
                <a:lnTo>
                  <a:pt x="286221" y="0"/>
                </a:lnTo>
                <a:lnTo>
                  <a:pt x="284821" y="1400"/>
                </a:lnTo>
                <a:lnTo>
                  <a:pt x="1400" y="1400"/>
                </a:lnTo>
                <a:close/>
              </a:path>
              <a:path fill="darken" w="286221" h="21600">
                <a:moveTo>
                  <a:pt x="286221" y="0"/>
                </a:moveTo>
                <a:lnTo>
                  <a:pt x="286221" y="21600"/>
                </a:lnTo>
                <a:lnTo>
                  <a:pt x="284821" y="20200"/>
                </a:lnTo>
                <a:lnTo>
                  <a:pt x="284821" y="1400"/>
                </a:lnTo>
                <a:close/>
              </a:path>
              <a:path fill="darkenLess" w="286221" h="21600">
                <a:moveTo>
                  <a:pt x="28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821" y="20200"/>
                </a:lnTo>
                <a:close/>
              </a:path>
              <a:path fill="lighten" w="28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08000" y="19051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onvascular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1112760" y="2819520"/>
            <a:ext cx="71852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sses often live together in large groups. They cover soil or rocks with a mat of tiny gree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ses have leafy stalks and rhizoids.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hiz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008000" y="19051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onvascular Plant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112760" y="2819520"/>
            <a:ext cx="7185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rn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ns grow in many places, from the cold arctic to humid tropical for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ferns have a rhizome. A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rhizo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008000" y="12952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onvascular Plant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112760" y="2209680"/>
            <a:ext cx="71852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verworts and Hornw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mosses, liverworts and hornworts are usually small, nonvascular plants that usually live in damp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mportance of Nonvascular Pla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vascular plants are usually the first plants to live in a new enviro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uch as newly exposed rock. When these nonvascular plants die, they form a thin layer of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1082520" y="1295280"/>
            <a:ext cx="71470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1008000" y="1143000"/>
            <a:ext cx="71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edless Vascular Plant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008000" y="1905120"/>
            <a:ext cx="71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mportance of Seedless Vascular Pla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ns, horsetails, and club mosses help form soil. They also help prevent soil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ferns and horsetails can be eaten. Horsetails are used in dietary supplements, shampoos, and skin-care produc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008000" y="1766880"/>
            <a:ext cx="71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edless Vascular Plant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08000" y="2701800"/>
            <a:ext cx="71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ains of ferns, horsetails, and club moss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lived and died 300 million yea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go formed co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umans rely on coal for ener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968400" y="1959120"/>
            <a:ext cx="7413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ways that seed plants differ from seedless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ucture of s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giosperms and gymnosp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conomic and environmental importance of gymnosperms and angiosperm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990720" y="114300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008000" y="11430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aracteristics of Seed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008000" y="1981080"/>
            <a:ext cx="7050240" cy="36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 plants differ from seedless plants in the following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008000" y="11430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tructure of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08000" y="1981080"/>
            <a:ext cx="705024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ed is made up of three parts. The first part is a young plant, or the sporophyte. The second part is stored food. Finally, a seed coat surrounds and protects the young pl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505320" y="152280"/>
            <a:ext cx="48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400800" cy="3800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952560" y="113184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cture of a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3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990720" y="2763720"/>
            <a:ext cx="74134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ur characteristics that all plants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ur main groups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origin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990720" y="184932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008000" y="12952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ymnosper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1042920" y="217656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mportance of Gymnospe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nifers are the most economically important gymnosperms. People use conifer wood for building materials and pape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s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008000" y="12952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ymnosper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042920" y="217656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ymnosperm Life Cyc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rm from pollen in the male cone fertilize the eggs of the female cone. A fertilized egg develops into a young sporophyte within the female c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lin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transfer of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581280" y="152280"/>
            <a:ext cx="48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>
            <a:off x="1374840" y="1295280"/>
            <a:ext cx="6549840" cy="44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1008000" y="12794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008000" y="2011320"/>
            <a:ext cx="752652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giosper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giosperm Repro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ers help angiosperms reproduce. Flowers attract animals that help spread po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uits surround and protect the seeds.These fruits help angiosperms distribute their s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90640" y="21337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giosper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42920" y="3048120"/>
            <a:ext cx="75265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wo Kinds of Angiosper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giosperms are divided into two classes— monocots and dico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next slide shows the two kinds of angiosp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581280" y="152280"/>
            <a:ext cx="48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094200" y="2370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620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008000" y="10666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giosper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008000" y="1752480"/>
            <a:ext cx="7526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mportance of Angiospe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ering plants provide many land animals with the food they need to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use flowering plants in many ways. Major food crops, such as corn, wheat, and rice, are flowering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ering plants are used to make cloth fibers, rope, medicines, rubber, perfume oil, and building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1"/>
          <p:cNvSpPr/>
          <p:nvPr/>
        </p:nvSpPr>
        <p:spPr>
          <a:xfrm>
            <a:off x="3200400" y="15228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1066680" y="2111400"/>
            <a:ext cx="74138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functions of roots and three functions of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tructure of a le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arts of a flower and thei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990720" y="131904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1"/>
          <p:cNvSpPr/>
          <p:nvPr/>
        </p:nvSpPr>
        <p:spPr>
          <a:xfrm>
            <a:off x="3200400" y="152280"/>
            <a:ext cx="48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1042920" y="1523880"/>
            <a:ext cx="7608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types of vascular tissue in pl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yl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lo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008000" y="13366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008000" y="1855800"/>
            <a:ext cx="73738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oot Function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llowing are the main functions of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9907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la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1008000" y="2097000"/>
            <a:ext cx="71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synthe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s use energy from sunlight to make food from carbon dioxide and water. This process is called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ticl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uticle is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oot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1008000" y="2125800"/>
            <a:ext cx="74502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oot Structure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pider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water and minerals are absorbed by the epidermis, they diffuse into the center of the root where the vascular tissue is 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oot ca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found at the end of the root.  The root cap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990720" y="1562040"/>
            <a:ext cx="73152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oot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008000" y="2125800"/>
            <a:ext cx="745020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oot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kinds of root systems—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proot systems have a main root, or tap root, that grows downward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cots and gymnosperms usually have tap root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ous systems have several roots that spread out from the base of the stem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nocots usually have fibrous root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0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96984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932040" y="1843200"/>
            <a:ext cx="77166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m Fun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em connects a plant’s roots to its leaves and flowers. A stem also has the follow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m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m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tem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69840" y="22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te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932040" y="2708280"/>
            <a:ext cx="77166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baceous 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plants have stems that are soft, thin, and flexible. These stems are called herbaceous stems. A cross section of an herbaceous stem is shown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2133720" y="1219320"/>
            <a:ext cx="49402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969840" y="22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te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932040" y="2708280"/>
            <a:ext cx="7716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ody Ste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ees and shrubs have rigid stems made of wood and bark. These stems are called woody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1755720" y="1079640"/>
            <a:ext cx="57736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008000" y="2125800"/>
            <a:ext cx="74502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af Func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function of leaves is to make food for the pl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af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tructure of leaves, shown on the next slide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related to their main function—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1676520" y="1155600"/>
            <a:ext cx="586404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9907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lant Characteristic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008000" y="2097000"/>
            <a:ext cx="7185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Wa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roduc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s have two stages in their life cycle—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eav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008000" y="2125800"/>
            <a:ext cx="745020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af Adapt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me leaves have functions other than photosynthe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aves of many cactuses are modified as spines. These spines keep animals from eating the cact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aves of sundews are modified to catch insects, which the sundew dig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1008000" y="2125800"/>
            <a:ext cx="7450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ers are adaptations for sexual re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pals and Petal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are called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sep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ta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lower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08000" y="2125800"/>
            <a:ext cx="7450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mens and Pisti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le reproductive structure of a flower is called a sta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st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517860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of Se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lower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008000" y="2125800"/>
            <a:ext cx="745020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mportance of Flow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ers help plants re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s use flowers for arrangement. Flowers are also used to make spices, perfumes, and lo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ccoli, cauliflower, and artichokes are flowers that people eat. Chamomile and hibiscus flowers are used to make t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2240" y="106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430800" y="2817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547640" y="1265400"/>
            <a:ext cx="65106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1008000" y="1324080"/>
            <a:ext cx="73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lan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055520" y="2063880"/>
            <a:ext cx="71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nvascular Pla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nvascular pl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scular Pla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scular pl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22240" y="106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430800" y="2817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838080" y="1674720"/>
            <a:ext cx="7620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066680" y="15494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Origin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055520" y="2387520"/>
            <a:ext cx="7185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nts Are Cousins of Green Alga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y exhibit many similarities, scientists think that green algae and plants share a common ance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dless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04652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044720" y="2286000"/>
            <a:ext cx="741348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nonvascular plants and three seedless vascular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seedless plants are important 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relationship between seedless vascular plants and c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990720" y="144792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1-20T19:56:31Z</dcterms:modified>
  <cp:revision>253</cp:revision>
  <dc:subject/>
  <dc:title>No Slide Title</dc:title>
</cp:coreProperties>
</file>